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9840-5D10-4190-AD1A-D558E7713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8AF3-4FC5-4F2D-8810-AB5C1961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4748-2DB0-4648-96A8-D74086451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C43B-E409-4A13-933A-71BA65406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2F03-B324-4A33-BAAB-8BD853832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CF3E-0F5A-4FF1-AA86-41DDB3CB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0149-B2FD-4860-8B23-403F00B2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9415-BB29-4A1C-8F79-D1F60F0D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8878-F0A3-4529-BD2C-072265E1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FEC9-A55A-4DFE-943D-19A70D7B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5220-867B-4694-89E1-5EBB4057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4895-B35D-4681-A0D2-A45C8F52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3E64-C30A-4B59-AA8C-873CB912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F152-D73C-4618-BC34-DA16B70B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DCF6-1C66-4AEA-B294-BBB96A95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2F3B-E9F8-4682-9D38-EA60F6FD4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2A92B-0665-44B8-94A0-B64AB15C9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3E13-7867-4A41-918C-93F16E0C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D9BC-EBB0-4412-8B00-147C58A9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2438-D1EC-4867-B859-E86CDEB3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1462-73D8-43A8-9216-2FADF880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3AA0-E34E-4B96-9D6B-8CC82A18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2E79-9EF0-4F47-8D15-E82DFCFD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3567-36E8-4053-800D-B81E9E7E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3D5C-0C40-447C-BD63-CE34C5220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CD75-F6DD-41BB-85F3-80E2D442C4F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第四章  保险承保管理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个人健康保险业务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龄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健康状况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逆选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道德风险因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性别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工作经历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生活习惯和生活方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个人意外伤害保险业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危险爱好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身体健康状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金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四、团体保险业务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新业务的核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团体的资格、团体的规模、团体成员的投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资格、团体的业务性质、参保率、团体成员的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动率、保险金额的确定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续保业务的核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团体的理赔经验、参保率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五、财产保险业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性能或构造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用途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环境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重要防护部位及防护措施状况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检验有无正处于危险状态中的财产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检查各项安全管理制度的制定和执行情况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四节  保险合同的保全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全的内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保全的意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三、保全服务的内容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单保全服务的基本作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附加价值服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咨询与投诉服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核保  续保  道德风险  心理风险保全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获取承保信息的主要渠道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核保中事前选择和事后选择的内容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道德风险 ？如何控制？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心理风险？如何控制？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个人寿险和团体寿险的核保要素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财产保险的核保要素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单保全服务的基本作业的内容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9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一节  保险承保的基本程序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制定承保方针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获取和评价承保信息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主要渠道：投保单、中介人及其经营业绩、体检报告、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地区销售经理、消费者调查报告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审查核保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作出承保决定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五、单证管理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六、续保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二节  承保选择与承保控制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核保的概念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核保是指保险公司对可保风险进行评判与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分类，进而决定是否承保、以什么样的条件承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的分析过程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核保的内容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核保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事前核保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投保人或被保险人的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保险标的及其利益的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事后核保选择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核保控制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控制道德风险的主要措施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控制保险金额，避免高额保险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控制赔偿程度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控制心理风险的主要措施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定免赔额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定共同保险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3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单中订入保证条款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4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续保优惠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5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其他优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三节  核保要素分析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个人寿险业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龄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同健康有关的风险因素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体格、 既往症、现症、家庭病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同健康无关的风险因素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业、习惯或嗜好、道德风险因素、财务状况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31:05Z</dcterms:modified>
  <cp:revision>22</cp:revision>
  <dc:subject/>
  <dc:title>没有幻灯片标题</dc:title>
</cp:coreProperties>
</file>